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C26A2-1356-4D0E-9C61-12679D000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2BBA5-8F8F-4901-8294-BAC720F93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E6A8C-58CC-4948-8BD0-9B7CBE171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80F89-438B-4037-B4E0-FA379D686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CB9B6-6C3E-4B49-BC82-1BB62FE5E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649F0-412B-4A34-B998-A0498B584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5939F-4F43-474C-ADDC-16500AC9C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597F2-4AB0-421D-97C6-7E9758ADE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FD6D2-99C3-4A10-BDAF-643BB3634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8A094-EF28-4F7F-8DDA-16CB92E0F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8627B-584F-45EC-8BA1-BAEA9EA63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CA7FF-15DA-4406-9977-470F839DE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EA7D3-D916-43B0-BB55-472D499C7A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es.wikipedia.org/wiki/Etnia" TargetMode="Externa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es.wikipedia.org/wiki/Muralismo" TargetMode="External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c090"/>
                </a:solidFill>
                <a:latin typeface="Comic Sans MS"/>
              </a:rPr>
              <a:t>MURALISM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ipo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¿Qué tipo de arte es ____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Género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¿De qué género es ____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scripción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¿Qué colores ves en ____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¿Cómo es ____?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¿Qué hacen las personas?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pinión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¿Qué opinas de ____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¿Cuáles son las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indicacione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d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dentidad personal?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¿Cuáles son las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indicacione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de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dentificación social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istoria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¿Qué es </a:t>
            </a:r>
            <a:r>
              <a:rPr b="0" lang="en-US" sz="2800" spc="-1" strike="noStrike">
                <a:solidFill>
                  <a:srgbClr val="e46c0a"/>
                </a:solidFill>
                <a:latin typeface="Comic Sans MS"/>
              </a:rPr>
              <a:t>la etni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C:\Users\joann\Pictures\Microsoft Clip Organizer\j0441428.pn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153280" y="5943600"/>
            <a:ext cx="381240" cy="3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" dur="5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" dur="5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" dur="50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" dur="500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" dur="500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" dur="500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7" dur="500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2" dur="500"/>
                                        <p:tgtEl>
                                          <p:spTgt spid="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837720" y="441972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46c0a"/>
                </a:solidFill>
                <a:latin typeface="Comic Sans MS"/>
              </a:rPr>
              <a:t>¿Qué es el muralismo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2" descr="C:\Users\joann\Pictures\Microsoft Clip Organizer\j0441429.pn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848720" y="58672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" descr="presencia de la.jpg"/>
          <p:cNvPicPr/>
          <p:nvPr/>
        </p:nvPicPr>
        <p:blipFill>
          <a:blip r:embed="rId4"/>
          <a:stretch/>
        </p:blipFill>
        <p:spPr>
          <a:xfrm>
            <a:off x="685800" y="1371600"/>
            <a:ext cx="762012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9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5959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Box 4"/>
          <p:cNvSpPr/>
          <p:nvPr/>
        </p:nvSpPr>
        <p:spPr>
          <a:xfrm>
            <a:off x="5562720" y="83808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or Diego River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4800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Historia de México: el antiguo mundo indígena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17" descr="el mundo azteca.jpg"/>
          <p:cNvPicPr/>
          <p:nvPr/>
        </p:nvPicPr>
        <p:blipFill>
          <a:blip r:embed="rId1"/>
          <a:stretch/>
        </p:blipFill>
        <p:spPr>
          <a:xfrm>
            <a:off x="1752480" y="1600200"/>
            <a:ext cx="5410440" cy="45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5959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5410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Los explotador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6"/>
          <p:cNvSpPr/>
          <p:nvPr/>
        </p:nvSpPr>
        <p:spPr>
          <a:xfrm>
            <a:off x="5715000" y="106668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or Diego River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Content Placeholder 15" descr="los explotadores.jpg"/>
          <p:cNvPicPr/>
          <p:nvPr/>
        </p:nvPicPr>
        <p:blipFill>
          <a:blip r:embed="rId1"/>
          <a:stretch/>
        </p:blipFill>
        <p:spPr>
          <a:xfrm>
            <a:off x="660240" y="1766880"/>
            <a:ext cx="7653600" cy="41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5959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64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En el Palacio Naciona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13"/>
          <p:cNvSpPr/>
          <p:nvPr/>
        </p:nvSpPr>
        <p:spPr>
          <a:xfrm>
            <a:off x="6172200" y="83808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or Diego River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18" descr="mexicodf05%20copia.jpg"/>
          <p:cNvPicPr/>
          <p:nvPr/>
        </p:nvPicPr>
        <p:blipFill>
          <a:blip r:embed="rId1"/>
          <a:stretch/>
        </p:blipFill>
        <p:spPr>
          <a:xfrm>
            <a:off x="1447920" y="1752480"/>
            <a:ext cx="60958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0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5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 etni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1599840" y="1752120"/>
            <a:ext cx="655308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¿Qué influencia tiene </a:t>
            </a:r>
            <a:r>
              <a:rPr b="0" lang="en-US" sz="4800" spc="-1" strike="noStrike">
                <a:solidFill>
                  <a:srgbClr val="e46c0a"/>
                </a:solidFill>
                <a:latin typeface="Comic Sans MS"/>
              </a:rPr>
              <a:t>la etnia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 en la vida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Box 5"/>
          <p:cNvSpPr/>
          <p:nvPr/>
        </p:nvSpPr>
        <p:spPr>
          <a:xfrm>
            <a:off x="1752480" y="4114800"/>
            <a:ext cx="6248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¿De qué etnia eres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7" dur="1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2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08T02:55:04Z</dcterms:created>
  <dc:creator>joann</dc:creator>
  <dc:description/>
  <dc:language>en-US</dc:language>
  <cp:lastModifiedBy>joann</cp:lastModifiedBy>
  <dcterms:modified xsi:type="dcterms:W3CDTF">2010-02-24T11:32:37Z</dcterms:modified>
  <cp:revision>64</cp:revision>
  <dc:subject/>
  <dc:title>Slide 1</dc:title>
</cp:coreProperties>
</file>